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AC1C-478C-437B-9131-5EF8FBBD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3472-07EE-4E16-87CD-5EAEADCC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5354-C617-4D08-9E1A-D260F249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6288-6087-431C-926E-FCCAE419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683D-67F8-4128-A26F-89FDCFE0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DF04-F342-4C18-849B-0A687326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02EB-8E61-4E5D-B5A0-607EEE8F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EC86-EF05-4120-9D9B-B774BA12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87ED-E626-4E6D-B876-B2F936A8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6547-1C57-4A1D-B389-0B63AD19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5284-26EC-46C0-8E6E-E9CE820E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4818-DA3F-41EE-BA45-AD25B3E0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8F8D-28F5-48BE-9138-5E426490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0B47-0C0B-4DD1-B7AB-A9D7060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03C6-359C-4157-8530-31B496D6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B48-101C-4A26-BFE0-6591E808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628F-5EA0-4011-9C2D-29D75D52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B81AA-7C72-4D68-944F-456F088F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887A-31EA-4AF6-95BF-028E8B5D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73C9-2049-413D-8F9F-B18E3952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B116-014D-4F06-ACDD-060B49AC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1E6A-B394-4903-AE8F-DA036EA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8D50-9204-4722-BEEB-DD589063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F19E-72F7-4672-B5CE-401D6EA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53EC-CD73-4508-94F7-D056656CCB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6834-9752-47DC-9A61-EBBB48FCE0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«Экономика предприят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70014"/>
                </a:solidFill>
                <a:latin typeface="Book Antiqua"/>
              </a:rPr>
              <a:t>Тема: </a:t>
            </a:r>
            <a:r>
              <a:rPr b="1" lang="en-US" sz="4400" spc="-1" strike="noStrike">
                <a:solidFill>
                  <a:srgbClr val="070014"/>
                </a:solidFill>
                <a:latin typeface="Arial"/>
              </a:rPr>
              <a:t>Финансы предприя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Основное направление использования финансовых сред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557360"/>
          <a:ext cx="7848720" cy="4373640"/>
        </p:xfrm>
        <a:graphic>
          <a:graphicData uri="http://schemas.openxmlformats.org/drawingml/2006/table">
            <a:tbl>
              <a:tblPr/>
              <a:tblGrid>
                <a:gridCol w="1536480"/>
                <a:gridCol w="63122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инвестирование в капитальные вложения на расширение производст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инвестирование в ценные бумаг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платежи в бюджет, банковскую систему, взносы во внебюджетные фонд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образование денежных фондов и резерв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Garamond"/>
              </a:rPr>
              <a:t>Налог</a:t>
            </a:r>
            <a:r>
              <a:rPr b="0" lang="ru-RU" sz="3200" spc="-1" strike="noStrike">
                <a:solidFill>
                  <a:srgbClr val="292929"/>
                </a:solidFill>
                <a:latin typeface="Garamond"/>
              </a:rPr>
              <a:t> </a:t>
            </a: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- </a:t>
            </a:r>
            <a:r>
              <a:rPr b="0" lang="ru-RU" sz="3200" spc="-1" strike="noStrike">
                <a:solidFill>
                  <a:srgbClr val="292929"/>
                </a:solidFill>
                <a:latin typeface="Garamond"/>
              </a:rPr>
              <a:t>это обязательный, индивидуально безвозмездный платеж, взимаемый органами государственной власти различных уровней с организаций и физических лиц в целях финансового обеспечения деятельности государства и (или) муниципальных образова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Сущность налогов проявляется в их функциях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1700280"/>
            <a:ext cx="6697800" cy="4897440"/>
          </a:xfrm>
          <a:prstGeom prst="verticalScroll">
            <a:avLst>
              <a:gd name="adj" fmla="val 18606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I  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фискальная</a:t>
            </a:r>
            <a:r>
              <a:rPr b="1" lang="ru-RU" sz="37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II 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регулирующая</a:t>
            </a:r>
            <a:r>
              <a:rPr b="1" lang="ru-RU" sz="37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III 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стимулирующая</a:t>
            </a:r>
            <a:r>
              <a:rPr b="1" lang="ru-RU" sz="37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IV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распределительная</a:t>
            </a:r>
            <a:r>
              <a:rPr b="1" lang="ru-RU" sz="37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292929"/>
                </a:solidFill>
                <a:latin typeface="Garamond"/>
              </a:rPr>
              <a:t>V  </a:t>
            </a:r>
            <a:r>
              <a:rPr b="1" i="1" lang="ru-RU" sz="3700" spc="-1" strike="noStrike">
                <a:solidFill>
                  <a:srgbClr val="292929"/>
                </a:solidFill>
                <a:latin typeface="Garamond"/>
              </a:rPr>
              <a:t>контрольная</a:t>
            </a:r>
            <a:r>
              <a:rPr b="1" lang="ru-RU" sz="4000" spc="-1" strike="noStrike">
                <a:solidFill>
                  <a:srgbClr val="29292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Фискальная функция налогообложения — основная функция налогообложения. Реализация функции осуществляется за счёт налогового контроля и налоговых санкций, которые обеспечивают максимальную собираемость установленных налогов и создают препятствия к уклонению от уплаты налогов. Благодаря данной функции реализуется главное предназначение налогов: формирование и мобилизация финансовых ресурсов государст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Регулирующая функция налогообложения — направлена на достижение посредством налоговых механизмов тех или иных задач экономической политики государст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Стимулирующая функция налогообложения — направлена на поддержку развития тех или иных экономических процессов. Она реализуется через систему льгот и освобождений. Нынешняя система налогообложения предоставляет широкий набор налоговых льгот малым предприятиям, предприятиям инвалидов, сельскохозяйственным производителям, организациям, осуществляющим капитальные вложения в производство и благотворительную деятельность, и т. д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Распределительная  функция налогообложения — состоит в перераспределении общественных доходов (происходит передача средств в пользу более слабых и незащищенных категорий граждан за счёт возложения налогового бремени на более сильные категории населения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Контрольная функция налогообложения — позволяет государству отслеживать своевременность и полноту поступлений в бюджет денежных средств и сопоставлять их величину финансовых ресурсо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29"/>
                </a:solidFill>
                <a:latin typeface="Garamond"/>
              </a:rPr>
              <a:t>Виды налог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1773360"/>
            <a:ext cx="3600360" cy="122400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Garamond"/>
              </a:rPr>
              <a:t>Пря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773360"/>
            <a:ext cx="3887640" cy="122544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Garamond"/>
              </a:rPr>
              <a:t>Косве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997360"/>
            <a:ext cx="3600360" cy="331308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, котор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взим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государств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епосредств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с до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или иму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оплательщ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997360"/>
            <a:ext cx="3887640" cy="331308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 на товары и услуг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устанавливае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в виде надб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к цене или тариф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в отличие от пря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определяемых дохо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налогоплательщ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55640" y="1268280"/>
            <a:ext cx="3959280" cy="504036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Аккорд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налог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устанавливаем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государств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на уровн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не зависящ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от разм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доходов и покупок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565360"/>
            <a:ext cx="338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1268280"/>
            <a:ext cx="3672000" cy="504036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Подоход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основной ви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прямых налог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взимаемый с дох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физ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и юридических л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(заработной пла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прибыли и т.д.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2565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50920" y="1600200"/>
          <a:ext cx="8569080" cy="4060800"/>
        </p:xfrm>
        <a:graphic>
          <a:graphicData uri="http://schemas.openxmlformats.org/drawingml/2006/table">
            <a:tbl>
              <a:tblPr/>
              <a:tblGrid>
                <a:gridCol w="2905200"/>
                <a:gridCol w="2928600"/>
                <a:gridCol w="2735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Прогрессивные налог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Регрессивные налог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Пропорциональные налог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налоги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у которых средняя налоговая ставка зависима прямо пропорционально от уровня дохода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налоги, чья средняя ставка налога обратно пропорциональна уровн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дохода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налоги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ставка которых не завис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от величины облагаемого доход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Garamond"/>
              </a:rPr>
              <a:t>Принципы налогообложения - это базовые идеи, правила и положения, применяемые в сфере налогообложения, т.е. принципы налогообложения - это принципы построения налоговой систем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Garamond"/>
              </a:rPr>
              <a:t>Эти принципы являются ориентиром при формировании налогово-правовой политики государ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Garamond"/>
              </a:rPr>
              <a:t>Комплекс принципиальных установок для системы налогообложени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46800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Классически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принцип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 rot="1696200">
            <a:off x="1692360" y="1989000"/>
            <a:ext cx="172872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177400">
            <a:off x="5866920" y="2565360"/>
            <a:ext cx="1727280" cy="1800360"/>
          </a:xfrm>
          <a:prstGeom prst="downArrow">
            <a:avLst>
              <a:gd name="adj1" fmla="val 50000"/>
              <a:gd name="adj2" fmla="val 26058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6680" y="4581360"/>
            <a:ext cx="571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Внутринациональ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Garamond"/>
              </a:rPr>
              <a:t>принцип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29"/>
                </a:solidFill>
                <a:latin typeface="Garamond"/>
              </a:rPr>
              <a:t>Классические принцип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28640"/>
          <a:ext cx="8229600" cy="5123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население всякого государства обязаны участвовать в покрытии расходов правительства каждый, по возможности, сообразно своей относительной платежеспособности, т.е. соразмерно доходу, которым он пользуется под охраной правительства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налог, который обязан уплачивать каждый, должен быть точно определен, а не произволен. Размер налога, время и способ его уплаты должны быть ясны и известны как самому плательщику, так и всякому другому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каждый налог должен взиматься в такое время и таким способом, какие наиболее удобны для плательщика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каждый налог должен быть так устроен, чтобы он извлекал из кармана плательщика возможно меньше сверх того, что поступает в кассы государства.</a:t>
                      </a: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Финансы предприятия представляют соб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систему денежных отношений, выражающ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формирование и использование денежны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фондов в процессе кругооборота ресурсо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предприятия, формирование его денежны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доходов и накопл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292929"/>
                </a:solidFill>
                <a:latin typeface="Garamond"/>
              </a:rPr>
              <a:t>Внутринациональные </a:t>
            </a:r>
            <a:br>
              <a:rPr sz="4400"/>
            </a:br>
            <a:r>
              <a:rPr b="1" lang="en-US" sz="4400" spc="-1" strike="noStrike">
                <a:solidFill>
                  <a:srgbClr val="292929"/>
                </a:solidFill>
                <a:latin typeface="Garamond"/>
              </a:rPr>
              <a:t>принципы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705200"/>
        </p:xfrm>
        <a:graphic>
          <a:graphicData uri="http://schemas.openxmlformats.org/drawingml/2006/table">
            <a:tbl>
              <a:tblPr/>
              <a:tblGrid>
                <a:gridCol w="1019160"/>
                <a:gridCol w="7210440"/>
              </a:tblGrid>
              <a:tr h="102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цип законности: каждое лицо должно уплачивать законно установленные налоги и сбор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цип не дискриминации: налоги и сборы не могут иметь дискриминационный характер и различно применяться исходя из социальных, расовых, национальных, религиозных и иных подобных критериев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цип единого экономического пространства: не допускается устанавливать налоги и сборы, нарушающие единое экономическое простран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цип ясности и определенности правового регулирования: при установлении налогов должны быть определены все элементы налогообложения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Финансовые ресурсы предприят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086120" y="13705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254840" y="1442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134480" y="1442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492280"/>
            <a:ext cx="2590920" cy="396108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Образуемые за сч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обственн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равненных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. Прибыль от основ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. Прибыль от ре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выбывшего имущ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. Аморт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. Устойчивые пасс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5. Целевые поступ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2492280"/>
            <a:ext cx="2592360" cy="381636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Мобилизу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 финансовый ры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.Продажа собств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ценных бум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. Дивиденды и проц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о ценным бумаг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других эмит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. Кред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. Доходы по операци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 иностранной валю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2492280"/>
            <a:ext cx="2592360" cy="3816360"/>
          </a:xfrm>
          <a:prstGeom prst="rect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оступающие в поряд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ерерас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.Страховые возмещ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. Финансовые ресур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оступающие от друг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ук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. Бюджетные субсид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378936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789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3789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Функции финансов предприя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413000"/>
            <a:ext cx="1584360" cy="1800000"/>
          </a:xfrm>
          <a:prstGeom prst="downArrow">
            <a:avLst>
              <a:gd name="adj1" fmla="val 50000"/>
              <a:gd name="adj2" fmla="val 28403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2349360"/>
            <a:ext cx="1657440" cy="1800360"/>
          </a:xfrm>
          <a:prstGeom prst="downArrow">
            <a:avLst>
              <a:gd name="adj1" fmla="val 50000"/>
              <a:gd name="adj2" fmla="val 27156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1341360"/>
            <a:ext cx="1654200" cy="1800360"/>
          </a:xfrm>
          <a:prstGeom prst="downArrow">
            <a:avLst>
              <a:gd name="adj1" fmla="val 50000"/>
              <a:gd name="adj2" fmla="val 27209"/>
            </a:avLst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3789360"/>
            <a:ext cx="3241440" cy="1368360"/>
          </a:xfrm>
          <a:prstGeom prst="ellipse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ВОСПРОИЗВОД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4724280"/>
            <a:ext cx="2952720" cy="1440000"/>
          </a:xfrm>
          <a:prstGeom prst="ellipse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РАСПРЕДЕЛИ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3645000"/>
            <a:ext cx="2340000" cy="1224000"/>
          </a:xfrm>
          <a:prstGeom prst="ellipse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КОНТРО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Воспроизводственная функ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беспечивает постоянный кругообор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редств как на отдельном предприятии, так и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экономике в целом. Посредством выполн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этой функции финансы предприятий влияю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 темпы развития экономики, складывающие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ропорции, изменение отраслевой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территориальной структур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Распределительная функ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Связана с формированием, распределением и использованием фондо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денежных средств. Распределение является связующим звеном между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производством и потреблением. В рыночных условиях распределени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совокупного общественного продукта и национального доход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осуществляется с  помощью финансов. Этот процесс начинается с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распределения выручки от реализации, часть которой идет 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Возмещение израсходованных средств производства, другая поступае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в фонды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централизованные (бюджет и внебюджетные фонды)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децентрализованные (фонд оплаты труда, фонды экономического стимулирования и финансирования затрат на расширение и развитие производства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Контрольная функ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оявляется в контроле над формирование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распределением и использованием фондов денеж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редств. Как и во всех других случаях, контрольна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функция финансов предприятий возникает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действует только одновременно с распределитель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В контрольной функции финансов предприяти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оявляется внутренне присущая им способнос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бъективно отражать и контролировать финансово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остояние предприятия, отрасли, экономики в це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Принципы организации финансовой деятельности предприят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628640"/>
            <a:ext cx="2772000" cy="239724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ЛА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1484280"/>
            <a:ext cx="3240000" cy="280656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ФИНАНСОВ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ООТНО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РО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3640" y="1628640"/>
            <a:ext cx="2556000" cy="237672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ИБК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60640"/>
            <a:ext cx="3492360" cy="273708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МИНИМИЗА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ФИНАНС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ИЗДЕРЖ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3860640"/>
            <a:ext cx="3313080" cy="266400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РАЦИОНА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3357720"/>
            <a:ext cx="2843280" cy="2997000"/>
          </a:xfrm>
          <a:prstGeom prst="irregularSeal1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ФИНАНСОВ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УСТОЙЧИВ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1. Принцип плановости. Обеспечивает соответствие объема продаж и издержек, объем инвестиций, потребности сбыта. Этот принцип наиболее полно реализуется при внедрении современных методов внутрифирменного финансового планирования, а так же контрол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2. Принцип финансового соотношения сроков. Необходим минимальный разрыв времени между получением и использованием средств. Особенно важно при инфляции и меняющемся валютном курсе. Использование – размещение актив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 Гибкости или маневрирования. Должны обеспечивать возможность маневра при не достижении планового объема продаж, или если происходит превышение плановых затрат при текучей инвестиционной деятель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4. Минимизация финансовых издержек. Что означает, финансирование любых инвестиций и других затрат должно осуществляться самым дешевым способ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5. Принцип рациональности. Вложение капитала должно иметь более высокую эффективность по сравнению с достигнутым ею уровнем и обеспечивать минимальные рис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6. Принцип финансовой устойчивости. Должны обеспечивать финансовую независимость, должны поддерживать удельный вес собственного удельного капитала, не ниже определенного уровня, и обеспечить платежеспособность предприятия (возможность погасить свои краткосрочные обязательства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6:11:20Z</dcterms:created>
  <dc:creator>User</dc:creator>
  <dc:description/>
  <dc:language>en-US</dc:language>
  <cp:lastModifiedBy>Customer</cp:lastModifiedBy>
  <dcterms:modified xsi:type="dcterms:W3CDTF">2012-01-30T16:35:26Z</dcterms:modified>
  <cp:revision>9</cp:revision>
  <dc:subject/>
  <dc:title>Слайд 1</dc:title>
</cp:coreProperties>
</file>